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BD6-0D65-45B6-83C7-2FBA3B34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E46-8DF4-4137-A403-AC4AA3A8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39193-8FD5-4EFE-BBCA-C2FF3861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060BD-364D-4287-9959-6DBAFF19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ED690-8D7E-4871-9146-0DA99F7C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EA8F2-828D-485F-9CD3-AA535D8C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0C274-A38F-4D8E-A6DF-5B1410B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CC1AC-8E26-435C-B048-9917088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985E2-4284-4ED4-A4AD-123A6E0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EABED-243F-4023-90E0-CA4E0819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FC11C-4C6C-4F50-83A4-679DFC8C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7AD9B-949C-43F6-8E23-013209A6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72B-BF6E-4B92-B99E-B5041A1D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CEFA6-79FD-48BE-AD30-E4426085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2EB89-3333-4BC4-BA83-E3D4AC56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42F1D-C2C8-4096-ADF0-099F7A9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A70B9-155D-47C9-BEB1-78D6ACA3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81BDE-25E8-4C3B-9105-626C3918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4F1B1-9F43-47D8-9DD5-B6918FE1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0EB37-3AD7-44FE-8A53-BB30EDA4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C156E-EAA9-4FE1-BCAA-68A3E730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3E3C4-720C-4D4D-A305-F8346CAA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61383-71E6-412E-A7A2-36110FD7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BDA-2F90-4371-B809-2142F00B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5F224-53CA-4936-9994-DA052632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62EB6-7BF7-4A09-835B-E7C2B28F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D49B2-BE9B-4D17-A84A-2141D1B0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4A57A-A59D-45F0-91E2-419ECDE0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8469F-FCC0-4B0D-A86E-C4248330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F5688-3935-4C99-9399-D4A184AD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4902A-5151-46DE-9A9C-A9414B72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B9326-4FCA-43D7-AEDD-61D29FD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66E6C-E080-49BF-8DB7-428299C0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04C21-BB78-42D2-9390-C16AB77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1A7F-EA72-4B25-9DDB-8A5A880E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0BB68-9577-49A0-A7D5-CA651E39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EF0EF-BB2F-4B75-ACB6-181D2A2D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B939E-8A56-4412-8F16-96DAD454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3DE37-1EAF-480B-AB6E-C76638A3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D1F00-F404-4840-B70A-1B6BB11E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22E96-BF4D-40B8-95D9-A7707FB7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F6B79-C835-4536-97FE-0427CC93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C4A19-FAD6-4116-9CB1-2092332B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29B5E-3C35-4EF6-AFB8-893437D2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F43D5-3944-4CC4-A5C6-B81DFDD9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14D8-3FCD-475F-A794-0B6B16A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BA6C0-E108-4E01-A6A8-3E39CF97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EA823-87C4-4FA2-A7F3-0CF4EAB7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D5CBE-1268-49F1-8AEF-591C2F43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1FC18-2E35-4C92-88E3-A40020D5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37DC4-E367-4FC6-B020-D2A3240F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6028-C58B-4281-9C26-F21E1DD1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228C-5C14-4501-8D9E-F31E681C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C69A-FA2E-43C9-9D11-5FB43841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A0A-300C-459E-98D8-CB68ED37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A172-B689-4170-AFCB-8C423F9E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197-C79F-4F4B-AE55-90F36268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439A-9518-4202-A571-BB1E926F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2EFB-6C83-48FB-839D-1A3C2ED6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75B5-CBA8-45CB-878C-F89468DB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FDEC-C028-47BB-9511-69C09EFA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207B-6BD8-4821-9BA8-0AFF6E4E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510E-91E2-470D-8CB0-1604CC01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7521-238A-4683-A2F7-A5062CC0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D536-72E3-4AEA-8D57-DF0021D3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18C1-5C4C-414E-BCDD-390ECCBB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E3B2C-E1BF-4529-9314-A402B1D3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839-0DC9-4A6C-AD47-E80B7FBA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0511-6BB7-4328-8FDB-A8508916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2856C-5ED7-4EB8-912E-A4E30DE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C508-9B3B-44B3-84A0-DAD2EED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A16A-E04B-4936-80D4-5F6E60EC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E694-CCCA-420E-8159-437E6467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4AE0-1C87-4BC2-A3E0-29A501A2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29F9-3D00-4EC0-A058-F28D5DB5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2FB1E-C670-4FA5-AF2C-89F65CF7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E5B6-72AF-4967-B8AE-02B04396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89B3-27B8-4771-8303-078BBDD4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02A-241F-45B3-AD46-74465CDE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5AF3A-88BD-48E1-9CB2-3A8FD30F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C04D-FD53-4D6B-8E5B-8DA9EEA3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3D55-40A6-473B-A7E6-B3CC34F1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5865-B72A-43FC-9CBA-C1656F7D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8E72-DF83-47A1-B3C3-8E82867E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BB6E-635C-444F-9CA2-79C97B4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5DCB-DA4D-4935-B4D0-00540AE2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89E4-A9C8-4034-95DA-38D81189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FCF3-F5AF-4761-ABE3-272E878A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DEE0-82FF-4744-A0DE-4305BD38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669-5286-4377-AEC1-EE2EEC89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2042-871D-43AA-B65F-A33181CD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E952-5754-42B4-A888-761A38FD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1277-F4B5-4760-A449-6C125417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8456-4553-4B08-A9C9-563595C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D2426-4E60-46AE-A2FF-E8D41176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971E-5A6A-43E6-8DBC-0AAC7575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4DE7B-2964-4946-985D-8C752F8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351B-FF84-4B90-A952-33E799E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AC3B5-3C3B-48D7-95F5-4AB3DFCA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DCF7-7171-434F-8EB5-B1257DC7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28F-43D0-4327-A326-47CA04EA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C9FA-8A6E-44B0-A82B-21957F57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64FCB-29A4-4595-95EA-2ED2DF36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36954-40EA-4663-9ADD-E6D81105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5D849-AE26-4C5F-96AB-8574C290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CFFD7-C224-4AAF-B00D-2C4BF938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526C-2817-4E42-8601-121B7A5F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0E0CC-14A2-4A4B-BBE1-F02C738F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559CC-4FE2-43C7-9944-DC86DEC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693EC-25EF-433B-B509-74BC158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6E882-F2FC-4F35-91BA-CE88577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168-2B12-4A8A-A7E5-36ACBCF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190A-652F-4010-A688-4F34F62D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B8BBD-22A8-432E-A4FF-C2F3D74F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2776E-11A0-4DB4-99E1-B82A726F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5766-E110-4161-AFEE-F95511CD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9E082-EFC2-4104-B590-C0BBACED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813AB-AB57-47C4-9519-4D0B74EC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51D85-6FBA-49C9-8E96-F8F5491D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4BA6-175E-4685-BDB8-452159D4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39371-3FB2-4C70-9167-778A098F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D35FC-EC3F-4FE8-A1D2-1F49C62D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34D-DBE9-48C6-BAB7-8DE1974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907FB-A97B-442B-A845-8FE74B45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17A38-E118-404B-8D9F-ADA5B905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C7ECD-A548-422E-9AE9-3ECE0B1C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FC1B-DEB0-402C-9FB7-FFDADC26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2490-65A5-4FF5-8291-DD0EEDDE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7D5B8-5D36-43BB-861A-ECD2D426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4A675-A984-4D72-91D1-E62F8150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AB2EA-0433-46A0-A714-4B7160BD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B5B33-65DF-48BD-87D7-7D42AD4A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CDF17-706E-4B9C-A97A-5EBE16DA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F93-AA53-4CF7-91EE-1CBBAE7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A46B2-5540-432E-9AD5-846DAF2C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F508C-9F0D-40FD-9DF5-CCCC57C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BBB0F-02FB-4883-A4FA-DCBF85B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8C0E6-F9F1-4745-AC7C-E11D8F26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0CB59-87CC-455C-8D29-4F090831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9D09D-C177-4AA2-864A-09D48930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B456-4F5B-477D-9616-C4C7D1E7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0486B-2D09-4641-A16E-0F298A65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3FF32-FFCD-4C6A-9BA2-A7C4232B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CCAD8-70C0-4622-8618-6BE93CD8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F3C2-58DB-498C-B1ED-909A56A6A8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C8B0-CA71-4EF5-81DF-A98E46B8CC9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D6AC-7D07-4C1C-8D64-BDC1F89AFE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873F-D108-47EE-93BF-3E2B4C62E32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AA07-6C06-428E-9479-D8D5BA4F0E6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D0A-1EC0-4648-9C06-D22F8E43183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8A45-7BD5-4B41-8F9E-BA23EB23FE1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853-00CF-46B7-BED8-3ED09B59CFD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5337-90BE-4DBC-B408-9F2C3CF4E8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59B3-D3DC-4399-B163-4E19353F5C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4506-6F87-472A-9637-A7D553900D2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E154-BF3A-49ED-B5BF-B7A561E1F9B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Sila teža i težina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4"/>
          <p:cNvSpPr/>
          <p:nvPr/>
        </p:nvSpPr>
        <p:spPr>
          <a:xfrm>
            <a:off x="3048120" y="914400"/>
            <a:ext cx="25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Uz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533520" y="3710160"/>
            <a:ext cx="53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ila kojom tekućina djeluje na uronjeno tijelo vertikalno prema gore zove se uzg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640080" y="1839960"/>
            <a:ext cx="762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što je težina tijela uronjena u vodu man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ego kada je ono 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van v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Slika 1" descr=""/>
          <p:cNvPicPr/>
          <p:nvPr/>
        </p:nvPicPr>
        <p:blipFill>
          <a:blip r:embed="rId1"/>
          <a:stretch/>
        </p:blipFill>
        <p:spPr>
          <a:xfrm>
            <a:off x="6400800" y="2762280"/>
            <a:ext cx="2568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271440" y="1676520"/>
            <a:ext cx="7908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Po čemu se težina tijela razlikuje od njegove m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u razlike između mase i teži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3.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je težina tegle mase 400 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zračunaj masu dječaka težine 620 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ila uzgon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da je uronjen u vodu kamen mase 300g ima težinu 2.5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liko iznosi sila uzgona na kamen u vodi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Slika 1" descr=""/>
          <p:cNvPicPr/>
          <p:nvPr/>
        </p:nvPicPr>
        <p:blipFill>
          <a:blip r:embed="rId1"/>
          <a:stretch/>
        </p:blipFill>
        <p:spPr>
          <a:xfrm>
            <a:off x="457200" y="785880"/>
            <a:ext cx="332892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padobranac pada dolje, prema tlu nakon š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koči iz avio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Mjesec kruži oko Zemlje, a Zemlja oko Sun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876760" cy="2666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sun"/>
          <p:cNvPicPr/>
          <p:nvPr/>
        </p:nvPicPr>
        <p:blipFill>
          <a:blip r:embed="rId3"/>
          <a:stretch/>
        </p:blipFill>
        <p:spPr>
          <a:xfrm>
            <a:off x="4495680" y="3505320"/>
            <a:ext cx="3530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Sila te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457200" y="4419720"/>
            <a:ext cx="7958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Sila tež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koja djeluje na svako tijelo na površini Zem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ertikalno prema dol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5"/>
              <p:cNvSpPr txBox="1"/>
              <p:nvPr/>
            </p:nvSpPr>
            <p:spPr>
              <a:xfrm>
                <a:off x="6019920" y="2362320"/>
                <a:ext cx="102528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F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12" name="Picture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4290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Težina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590920" cy="299088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419040" y="3865680"/>
            <a:ext cx="77724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Težina</a:t>
            </a:r>
            <a:r>
              <a:rPr b="0" lang="en-US" sz="2800" spc="-1" strike="noStrike">
                <a:solidFill>
                  <a:srgbClr val="17375e"/>
                </a:solidFill>
                <a:latin typeface="Arial"/>
                <a:ea typeface="Arial"/>
              </a:rPr>
              <a:t> tijela</a:t>
            </a:r>
            <a:r>
              <a:rPr b="0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kojom tijel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tišće podlogu na kojoj stoji il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j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jeluje na ovjes na kojemu visi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nu tijela označavamo s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6019920" y="2362320"/>
                <a:ext cx="8380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G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934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Hvatište</a:t>
            </a:r>
            <a:r>
              <a:rPr b="0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 sile teže i tež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14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4572000" cy="26956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20"/>
          <p:cNvSpPr/>
          <p:nvPr/>
        </p:nvSpPr>
        <p:spPr>
          <a:xfrm>
            <a:off x="4495680" y="4038480"/>
            <a:ext cx="3345120" cy="201312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atište težine tijela je u podlozi na kojoj tijelo stoj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0"/>
          <p:cNvSpPr/>
          <p:nvPr/>
        </p:nvSpPr>
        <p:spPr>
          <a:xfrm>
            <a:off x="457200" y="4038480"/>
            <a:ext cx="3344760" cy="201312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Hvatište sile teže na tijelo u samome je tijel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3"/>
          <p:cNvSpPr/>
          <p:nvPr/>
        </p:nvSpPr>
        <p:spPr>
          <a:xfrm>
            <a:off x="758880" y="10666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žina tijela  →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771120" y="19810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a teža      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352680" y="190512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3352680" y="990720"/>
                <a:ext cx="1646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5"/>
              <p:cNvSpPr txBox="1"/>
              <p:nvPr/>
            </p:nvSpPr>
            <p:spPr>
              <a:xfrm>
                <a:off x="2971800" y="3048120"/>
                <a:ext cx="2665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TextBox 10"/>
          <p:cNvSpPr/>
          <p:nvPr/>
        </p:nvSpPr>
        <p:spPr>
          <a:xfrm>
            <a:off x="1066680" y="5029200"/>
            <a:ext cx="714384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 svako tije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Zemlj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kvocij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žine i mase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/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m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dnaku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vrijed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357200" y="2000160"/>
            <a:ext cx="5715000" cy="3286080"/>
          </a:xfrm>
          <a:prstGeom prst="rect">
            <a:avLst/>
          </a:prstGeom>
          <a:ln w="0">
            <a:noFill/>
          </a:ln>
        </p:spPr>
      </p:pic>
      <p:sp>
        <p:nvSpPr>
          <p:cNvPr id="528" name="TextBox 4"/>
          <p:cNvSpPr/>
          <p:nvPr/>
        </p:nvSpPr>
        <p:spPr>
          <a:xfrm>
            <a:off x="1275840" y="857160"/>
            <a:ext cx="63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bog oblika Zemlje sila teža nije na Zemljino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vršini  posvuda jedn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550080" y="5572080"/>
            <a:ext cx="80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području Hrvatske težina tijela mas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 kg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nos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9,81 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2"/>
          <p:cNvSpPr/>
          <p:nvPr/>
        </p:nvSpPr>
        <p:spPr>
          <a:xfrm>
            <a:off x="449640" y="1295280"/>
            <a:ext cx="6972840" cy="1922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lena ima masu 5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lika je njezina tež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 koje tijelo djeluje Jelenina težina kada ona stoji u sob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lika sila teža djeluje na Jele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380880" y="3657600"/>
            <a:ext cx="6553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5 kg ·10 N/kg = 550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lenina težina djeluje na 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550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Slika 1" descr=""/>
          <p:cNvPicPr/>
          <p:nvPr/>
        </p:nvPicPr>
        <p:blipFill>
          <a:blip r:embed="rId1"/>
          <a:stretch/>
        </p:blipFill>
        <p:spPr>
          <a:xfrm>
            <a:off x="304920" y="85716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2"/>
          <p:cNvSpPr/>
          <p:nvPr/>
        </p:nvSpPr>
        <p:spPr>
          <a:xfrm>
            <a:off x="271440" y="1523880"/>
            <a:ext cx="83721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 slici je predočena težina tijela mase 100 g na nekim planet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e su vrijednos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na tim nebeskim tijeli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traži kolika bi bila tvoja težina na tim planetim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5515200" cy="2295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15238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4:48Z</dcterms:modified>
  <cp:revision>42</cp:revision>
  <dc:subject/>
  <dc:title>Slide 1</dc:title>
</cp:coreProperties>
</file>